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E854-7F1E-4238-BD04-AA15EAD52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E791-19E3-4713-BAFB-0E514FAD3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8510-280B-4D45-98AC-A9804CBB0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4BD0-6EBB-4E3B-A577-DA1B009CC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C9D2-F63F-4B4B-AA49-9B5E3D3BB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2B79-0BE8-4453-A45E-7F60D931E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1B56-50FA-4B74-98FE-97905C07C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7B75-A641-490C-AFE7-D0882D524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7C69-975B-4E6A-9857-F260BC5E1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0E0D-5C6C-415C-8BD4-0C4EA9215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9418-10C2-4C18-8BE8-50A605114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DA5C-EE7E-48AF-93A6-5763764C5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BC68-1F76-4C23-8AE4-181F78DD3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79D0-3A76-4E50-B01F-66E1418F1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3F2A0AFF-4541-4CB3-8C68-0F95F005CE3F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2611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5981760"/>
            <a:ext cx="9144000" cy="876240"/>
          </a:xfrm>
          <a:prstGeom prst="rect">
            <a:avLst/>
          </a:prstGeom>
          <a:solidFill>
            <a:srgbClr val="604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BCCA2253-AEC3-4D0B-805B-4973AEC1C09C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783EAB81-7073-4857-AF76-D49B16027049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89000" y="5419440"/>
            <a:ext cx="876600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5: Spreadsheet and Worksheet Basic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94 &amp; 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orting Worksheet Data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90720" y="1600200"/>
            <a:ext cx="7696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r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 arrange or group items in a particular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cend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-Z, 1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d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Z-A, 10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 Sor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using variables &amp; levels to customize what you need to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Ribbon, Sort Section, Ascending/Descending/Custom but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8C3BD49-AF6C-4A2D-8413-6F1FBECEE31B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6110280" y="2203560"/>
            <a:ext cx="2297160" cy="1652400"/>
          </a:xfrm>
          <a:prstGeom prst="rect">
            <a:avLst/>
          </a:prstGeom>
          <a:ln w="0">
            <a:noFill/>
          </a:ln>
        </p:spPr>
      </p:pic>
      <p:cxnSp>
        <p:nvCxnSpPr>
          <p:cNvPr id="209" name="Straight Arrow Connector 2"/>
          <p:cNvCxnSpPr/>
          <p:nvPr/>
        </p:nvCxnSpPr>
        <p:spPr>
          <a:xfrm flipH="1">
            <a:off x="5514480" y="2886120"/>
            <a:ext cx="1867680" cy="38880"/>
          </a:xfrm>
          <a:prstGeom prst="straightConnector1">
            <a:avLst/>
          </a:prstGeom>
          <a:ln w="5724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10" name="Straight Arrow Connector 7"/>
          <p:cNvCxnSpPr/>
          <p:nvPr/>
        </p:nvCxnSpPr>
        <p:spPr>
          <a:xfrm flipH="1">
            <a:off x="5695200" y="3286080"/>
            <a:ext cx="1686600" cy="124560"/>
          </a:xfrm>
          <a:prstGeom prst="straightConnector1">
            <a:avLst/>
          </a:prstGeom>
          <a:ln w="5724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orting Worksheet Data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20240" y="4624560"/>
            <a:ext cx="7696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e by adding/deleting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ter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e by selecting variable to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841D4F1-D1C6-4B6D-B78B-E8A271DB0C6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279440" y="1473120"/>
            <a:ext cx="717876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ifferent Sorts of Same Data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by period and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 by period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758249A3-64EE-40CA-9CA5-20E78D9462E2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328760" y="2133720"/>
            <a:ext cx="3286080" cy="3095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4973760" y="2763720"/>
            <a:ext cx="341604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195560" y="3279600"/>
            <a:ext cx="7381800" cy="34196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nsert Worksheet in </a:t>
            </a:r>
            <a:r>
              <a:rPr b="0" i="1" lang="en-US" sz="4000" spc="-1" strike="noStrike">
                <a:solidFill>
                  <a:srgbClr val="c23191"/>
                </a:solidFill>
                <a:latin typeface="Arial"/>
              </a:rPr>
              <a:t>Word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1599840"/>
            <a:ext cx="769608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ord, click Table button in the Tables group on the Insert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5E077278-75BE-427C-9B34-64100EACBD03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diting, Moving, and 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pying Cell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29920" y="1496520"/>
            <a:ext cx="83487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iting Cell conten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everal ways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into formula bar &amp; use Delete or Backspace to edit data, press 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cell and key new data (automatically replaces old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lick into Active Cell to edit directly in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ring Cell Contents &amp; Forma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lear command on home ribbon to clear: contents, format, 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4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16091899-5E7A-4A13-AC13-79C0CAEC5AD1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903240" y="3932280"/>
            <a:ext cx="7763040" cy="2511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dit and Clear Cell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4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5D934339-3CB2-4881-AD85-C4EE7A929863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903240" y="1598760"/>
            <a:ext cx="78789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py and Move Data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77360" y="1496520"/>
            <a:ext cx="8388360" cy="29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t, Copy and Paste from the Clipboard group on the Home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l Hand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ndle on lower right corner. This will “fill in” or “copy” data into adjacent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4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78F361D8-521C-430D-A879-3EC3859611F1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639720" y="4218120"/>
            <a:ext cx="792468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ting Cells &amp; Column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90360" y="1600200"/>
            <a:ext cx="4840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tting Cells/Colum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Home Ribbon, Cells Group, Format 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column/row width/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3B536E34-E758-4C09-BCCE-EB62C9A9AF47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rcRect l="67278" t="4299" r="13919" b="39821"/>
          <a:stretch/>
        </p:blipFill>
        <p:spPr>
          <a:xfrm>
            <a:off x="6143760" y="1619280"/>
            <a:ext cx="22939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hange Column Width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fy exact wid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Column Width from the Format option in the Cells group on the Home ta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to multiple colum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column heads then apply width 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0969E0E3-77C7-404D-B6A2-752791E11BA4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3313080" y="3108240"/>
            <a:ext cx="294336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hange Column Width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41240" y="1600200"/>
            <a:ext cx="8018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column width automatically to fit the longest item in the colum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lick the right column border (between the column let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use AutoFit Column Width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Column Width from the Format option in the Cells group on the Home rib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201150C-6EF8-452D-9410-7DEF47F4F5DA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hange Column Width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7E693677-CE9E-4724-B412-52B8A4F3CCA4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165320" y="3532320"/>
            <a:ext cx="4083120" cy="2814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5648400" y="3773520"/>
            <a:ext cx="2533680" cy="23320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7"/>
          <p:cNvSpPr/>
          <p:nvPr/>
        </p:nvSpPr>
        <p:spPr>
          <a:xfrm>
            <a:off x="542880" y="1541520"/>
            <a:ext cx="8336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apply to multipl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column head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Ribbon, Cells Group,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same concept for Adjusting Row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nserting and Deleting 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Rows and Column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90720" y="1600200"/>
            <a:ext cx="7696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Ribbon, Cells Group, Insert 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 the Delete button in the Cells group on the Home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AA00DB5-B447-4B1E-87E5-0167135F67A4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278000" y="1585800"/>
            <a:ext cx="71406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9:35:53Z</dcterms:created>
  <dc:creator>Jean Bissell</dc:creator>
  <dc:description>Copyright 2006 South-Western/Thomson</dc:description>
  <dc:language>en-US</dc:language>
  <cp:lastModifiedBy>Lenessa Keehn</cp:lastModifiedBy>
  <dcterms:modified xsi:type="dcterms:W3CDTF">2011-03-29T20:27:47Z</dcterms:modified>
  <cp:revision>23</cp:revision>
  <dc:subject/>
  <dc:title>Slide 1</dc:title>
</cp:coreProperties>
</file>